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34B-E191-42E6-B5E7-052668B5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1E8-1FC3-474B-B85F-5A2A97F1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C38-A666-447E-A3D3-A49DAF7E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7FC-C1DF-453E-984E-5563F97E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5592-4149-42C2-9F84-6ED667EC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5520-4BC0-49DB-84BE-D4F4EB4F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1796-6453-4045-BE26-E3E4C15B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94EE-9DED-44CA-B4EC-DA5F200D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7AF4-D11F-42FF-B259-373B9158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BE05-4B67-4050-B115-13BC85D4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9714-3422-4E0C-BE85-E5B26E62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18C-1979-43FA-ACFB-8CFFD794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D1D5-36DD-442B-8D79-370EE0CB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CBF6-B0DE-4F42-B213-DE10F5F4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05C2-180C-477C-ABA3-6F42777E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5938-9D4F-4529-BF57-EE29161F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5674-3199-48FB-A738-EB45067C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338-49E1-428B-8C19-5FAB4703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ADE-99DA-45C8-B10C-4568F73E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CA9-C6B0-483B-AD53-1B58641C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A4E-B9F1-465A-B9B9-E3829F85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96E-8B94-475D-98C1-874F205B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F7D-749C-4DD0-A1AA-FB46D743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02C-6B0C-4888-B2FB-58F5B3C3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72b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4b3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omputer Literacy 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793E-D8B9-475F-85F2-3F134B49E2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72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4b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C79A-5493-4C47-89B2-DF4E3149E47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Key Applications Module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esson 20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nhancing Presentations with Multimedia Effec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504960" y="2927520"/>
            <a:ext cx="5181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uter Literacy BASIC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Font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813280" cy="34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350-6C44-45D3-A1CD-1EBAACEEE5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lecting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modify text appearance, you must first select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you select text, you can delete it, replace it, change its appearance, move it, copy it, and so 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4DE-EBEF-4A43-8B92-E0E880241B1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ys to Select Text in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85800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3A3-B356-4F64-99D2-4BB6A3159C8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 Styles on Sli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ing too many fonts or too many different formats makes text harder to re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if typefaces (such as Times Roman) have embellishments or curls at the ends of the lett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Serif typefaces are easiest to read and should be used when there are many words on a screen.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ns serif typefaces (such as Arial) have plain strokes with clear and simple curv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Sans serif typefaces are usually heavier and bolder and are appropriate for titles and subtitles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EE6-48CB-4C77-8DBF-9FA188F4202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Clip art and graphic objects can be added to your slides to add visual appeal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ictures can be inserted from the Clip Organizer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Use sizing handles around the object to resize i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lso drag the border of the picture to move it around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A95-A58D-46D9-9494-1202A78923B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ting a Graph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962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he icons in a graphic placeholder allow you to insert tables, charts, clip art, pictures, media clips, diagrams, and organizational charts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lick an icon to open a dialog box to insert the graphic type of your choice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917960" y="2438280"/>
            <a:ext cx="3106800" cy="3505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71560" y="60199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aphic placehold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81280" y="5181480"/>
            <a:ext cx="129564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FBC-1AA0-4E6B-8B83-9CC954A5E42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ting Clip 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038480" y="2362320"/>
            <a:ext cx="407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Insert Clip Art icon in a graphic placehol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Search text box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any thumbnail image to insert it on your slid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sert, Picture, ClipArt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sert, Picture, From Fi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2654280" cy="35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DB9-04FE-4ED4-AC3C-A7EB9031D50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ing Slide Layou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You can change or add a slide layout in Normal view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66"/>
                </a:solidFill>
                <a:latin typeface="Arial"/>
              </a:rPr>
              <a:t>Format, Slide Layout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4 categories of slide layouts: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layou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t layou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and Content layou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 layou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3A3-E90B-449C-8193-2FBC990310A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lide Layout Task P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4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efault layout  i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itle and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any slide layout to apply to a slide. Select the slide in Normal view then select the layout you want to appl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r content and formatting remain-only the layout of the slide will chang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2438280"/>
            <a:ext cx="18655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9B6-4F06-428B-9AFE-F1ED979D8CE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ide Mas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700" spc="-1" strike="noStrike">
                <a:solidFill>
                  <a:srgbClr val="003366"/>
                </a:solidFill>
                <a:latin typeface="Arial"/>
              </a:rPr>
              <a:t>Slide Master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is an element of the design template that stores information about the templat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utomatically provided with every design template in PowerPoin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keep formats, such as font styles and background design, in a Slide Master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You can also add text or insert graphics that will appear on every pag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D6CF-32B3-429E-8F71-DC6D915BEB5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information to a sl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pictures and other graph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slide layo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Slide Mast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970-35FF-42E6-B6F9-C636EE2EE00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ew and Change a Slide Mas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View, Master, Slide Master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ke formatting changes to a Slide Master like normal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f it is on the slide master, it appears on EVERY slide!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C26-3E79-4A2A-8417-D801435AB80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ide transitions determine how the display changes from slide to sli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ke the current slide fade away before the next one appea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ave slides automatically advance after a specified time perio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lay a sound effect as the slide appea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C27-7109-48FC-A433-4F8968755F1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i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itions can be applied to single slides or to all slid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lide Show, Slide Tran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0B3-E624-4D8E-A677-3F6A4E360FD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imation Effe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y animation effects, such as exit, entrance, and emphasis effects, to one slide or entire slide sh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391E-ABB1-42E9-A05D-7D831E236F6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imation Effec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animation effec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Slide Show, Custom Animatio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Add Effect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button in the Custom Animation pan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Or select the </a:t>
            </a:r>
            <a:r>
              <a:rPr b="0" i="1" lang="en-US" sz="2600" spc="-1" strike="noStrike">
                <a:solidFill>
                  <a:srgbClr val="003366"/>
                </a:solidFill>
                <a:latin typeface="Arial"/>
              </a:rPr>
              <a:t>More Effect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ption to open an effect dialog box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F07-FA53-4F92-BEB0-E63E4F6C995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dd Exit Effect Dialog Bo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08480" y="2438280"/>
            <a:ext cx="2446200" cy="387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D1A-F7AA-4993-B6B0-8B0561F737B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ting a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re are several ways you can print a PowerPoint presentatio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individual sli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the slide show outli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handou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speaker’s no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use PowerPoint’s Help feature to learn more about how to print a specific element of a presentatio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FDE-7706-457B-AFCC-6695BD8382E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ting Handou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o print handouts for a presentatio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en the File menu and click Print Previe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down arrow in the Print What text box to see the options availabl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one of the Handouts options from the lis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he Print button in the Print Preview window to print the handou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u can change the print options, such as the range of pages to print, color or grayscale, and number of copies, in the Print dialog box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9FF-0158-4181-BAFA-255C6BAA9E5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or edit text, a slide must be displayed in Normal view. When you add text or edit text, the slide contents are automatically updated in the Outline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want to change the way text looks on a slide, you can select the text and apply different formats. For example, you can change the font style, font size, and font colo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F74-5459-4124-A15C-7211996D9B0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Pictures help to clarify the message of your presentation. Graphics can make your audience remember your message, and PowerPoint makes it easy for you to add a picture to a slid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t any time in the process of creating a presentation, you can change the layout of one or all the slides in the presentation by selecting a new slide layout in the Slide Layout task pane.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1E3-C6D8-4E65-B2D3-63AD97FC987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transitions between slid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order of slides in a present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t handouts and notes to accompany a slide sh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A0A-546C-4B50-AD0E-E32F0D5EDA7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lide Master is part of a design template and is used to make uniform changes to slide characteristics, such as background color and font, or to add repeated text or graphics to all slides in a present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lide transition affects how each new slide appears. You can apply transition settings to a single slide or to all the slides in the present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274-4160-4BC3-BC19-EDA85613E8D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werPoint provides special effects that can enhance how a slide opens or closes or add emphasis, animation, or sound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use drag-and-drop editing to quickly change the order of slides in a presentation in Slide Sorter view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werPoint provides several options for printing a presentation, including handouts, notes pages, and an outline of the slide show conten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E64-CBBE-4149-B877-CA0D422B42E4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p Organiz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it eff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lide Ma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9A2-200C-41EC-B87D-32537D09F51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ing Information to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text to a slide or to edit the text on a slide, it must be displayed in Normal vi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placeholder:  just click in the placeholder and begin ke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You can type titles, subtitles, and body text in placeholder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an resize the placeholders, move them and add formatting to tex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A48-070C-4230-AAB7-3D6697330DE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xt Box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: 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nsert, Text Bo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w you to place text anywhere on a slide, even outside a placehol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dd a border, fill, shadow, or three-dimensional (3-D) effect to a text bo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6B7-CF39-4780-AF7B-DB2BF5DD8A8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toShapes and Word 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AutoShapes to emphasiz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hen you enter text in AutoShape, text is attached to the shape and moves with i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WordArt to create ornamental text eff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an stretch, curve, and rotate text to add even more elaborate effects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79B-587C-4216-8222-33D48539B03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iting Text in a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edit text in a placehold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Position the insertion point where you want to change the tex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ke your changes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ts in the Outline pane are automatically updated when you edit text in Slide pa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B9D-6C37-49CD-8F4C-9048ABD163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ting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With a  design template, format of the text is predetermined, but can change it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Use the Formatting toolbar or Font dialog box to change the font, font size, and attributes such as bold, italic, and underline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apply other attributes, such as color, shadow, superscript, and others, in the Font dialog box.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Office XP:  Advanced Course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53F-5577-489D-9781-15FE514658B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>Connie Morrison</dc:creator>
  <dc:description/>
  <dc:language>en-US</dc:language>
  <cp:lastModifiedBy>LDSD</cp:lastModifiedBy>
  <dcterms:modified xsi:type="dcterms:W3CDTF">2009-11-16T17:54:50Z</dcterms:modified>
  <cp:revision>44</cp:revision>
  <dc:subject/>
  <dc:title>kjjhghgff</dc:title>
</cp:coreProperties>
</file>